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396B2-9E9C-427F-8C0C-098BAD53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1123-FED1-41D4-B753-A6472713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9290-C14F-4BEE-A277-F29F5CDB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5C439-35DA-451C-94E6-70551113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F5AC-A5D2-441D-A27E-8A88DC73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072F-E051-4926-924C-EFF91932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26AC-A482-481F-85C5-5F904165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481D-1D93-49B3-ADCC-DE5901A7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55E4-D9AD-48A3-B517-CAEDC4AD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FE14-5E58-46C2-9BF4-CF5A90FD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20CC-219C-4FC2-B9C1-B218A4E7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F926E-E161-4583-AFE2-654CF8AA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4434-7706-4766-9231-27CA4B6A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0197-CBA2-4D2B-AD91-18CA5D67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3B4B-7788-4967-AF06-99213D1B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8C8E-4AB5-41DC-9A25-44B129B9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8E40-D539-42C3-A33E-AF0F5348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4D4D5-34B1-4A89-B5B5-68FA6886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0405-E7CE-4E80-86F0-D3969DAE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D6033-C9C8-48EC-85BA-72B3B996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8B0A-D1FC-4DBD-8C86-DB96B54A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A935-B82B-4905-9E4A-33468C44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F7BD5-E36D-4927-8916-69D9AA9D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8E22F-A577-4CDD-B842-21B08DE6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0462-BD1A-4219-896E-595499337F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7510-9021-4AD3-B20F-D02741A187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iunghiul dreptunghi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f. Chira Daniela M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ala cu clasele I-VIII Moldovene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. Clu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Funcţii trigonomet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539640" y="1268280"/>
            <a:ext cx="6224760" cy="4921560"/>
            <a:chOff x="539640" y="1268280"/>
            <a:chExt cx="6224760" cy="4921560"/>
          </a:xfrm>
        </p:grpSpPr>
        <p:sp>
          <p:nvSpPr>
            <p:cNvPr id="195" name="AutoShape 10"/>
            <p:cNvSpPr/>
            <p:nvPr/>
          </p:nvSpPr>
          <p:spPr>
            <a:xfrm rot="7493400">
              <a:off x="1946160" y="1864080"/>
              <a:ext cx="2817000" cy="403380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5865840" y="357228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2255040" y="1268280"/>
              <a:ext cx="76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4"/>
            <p:cNvSpPr/>
            <p:nvPr/>
          </p:nvSpPr>
          <p:spPr>
            <a:xfrm>
              <a:off x="539640" y="3525840"/>
              <a:ext cx="89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407664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sinus = raportul dintre cateta opusă şi ipotenuz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sinus = raportul dintre cateta alăturată şi ipotenuz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tangentă = raportul dintre cateta opusă şi cateta alăturat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tangentă = raportul dintre cateta alăturată şi cateta opus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 este triunghiul dreptungh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umeste triunghi dreptunghic, triunghiul care are un unghi dr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8"/>
          <p:cNvGrpSpPr/>
          <p:nvPr/>
        </p:nvGrpSpPr>
        <p:grpSpPr>
          <a:xfrm>
            <a:off x="4067280" y="3284640"/>
            <a:ext cx="3817800" cy="2449440"/>
            <a:chOff x="4067280" y="3284640"/>
            <a:chExt cx="3817800" cy="2449440"/>
          </a:xfrm>
        </p:grpSpPr>
        <p:sp>
          <p:nvSpPr>
            <p:cNvPr id="121" name="AutoShape 5"/>
            <p:cNvSpPr/>
            <p:nvPr/>
          </p:nvSpPr>
          <p:spPr>
            <a:xfrm rot="16200000">
              <a:off x="4751280" y="2600280"/>
              <a:ext cx="2449440" cy="381780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7667640" y="5516640"/>
              <a:ext cx="217440" cy="217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m se numesc laturile triunghiului dreptungh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2920" y="3429000"/>
            <a:ext cx="40388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, AC – ca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- ipotenu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7"/>
          <p:cNvGrpSpPr/>
          <p:nvPr/>
        </p:nvGrpSpPr>
        <p:grpSpPr>
          <a:xfrm>
            <a:off x="748080" y="1989000"/>
            <a:ext cx="3925440" cy="4126680"/>
            <a:chOff x="748080" y="1989000"/>
            <a:chExt cx="3925440" cy="4126680"/>
          </a:xfrm>
        </p:grpSpPr>
        <p:grpSp>
          <p:nvGrpSpPr>
            <p:cNvPr id="126" name="Group 15"/>
            <p:cNvGrpSpPr/>
            <p:nvPr/>
          </p:nvGrpSpPr>
          <p:grpSpPr>
            <a:xfrm>
              <a:off x="748080" y="1989000"/>
              <a:ext cx="3925440" cy="4126680"/>
              <a:chOff x="748080" y="1989000"/>
              <a:chExt cx="3925440" cy="4126680"/>
            </a:xfrm>
          </p:grpSpPr>
          <p:sp>
            <p:nvSpPr>
              <p:cNvPr id="127" name="AutoShape 8"/>
              <p:cNvSpPr/>
              <p:nvPr/>
            </p:nvSpPr>
            <p:spPr>
              <a:xfrm rot="3084000">
                <a:off x="1815480" y="2649240"/>
                <a:ext cx="2198520" cy="2745000"/>
              </a:xfrm>
              <a:prstGeom prst="rtTriangl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9"/>
              <p:cNvSpPr/>
              <p:nvPr/>
            </p:nvSpPr>
            <p:spPr>
              <a:xfrm>
                <a:off x="3270240" y="1989000"/>
                <a:ext cx="36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0"/>
              <p:cNvSpPr/>
              <p:nvPr/>
            </p:nvSpPr>
            <p:spPr>
              <a:xfrm rot="21458400">
                <a:off x="755280" y="3722040"/>
                <a:ext cx="3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1"/>
              <p:cNvSpPr/>
              <p:nvPr/>
            </p:nvSpPr>
            <p:spPr>
              <a:xfrm rot="21475200">
                <a:off x="2441520" y="574020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16"/>
            <p:cNvSpPr/>
            <p:nvPr/>
          </p:nvSpPr>
          <p:spPr>
            <a:xfrm rot="2952600">
              <a:off x="1208160" y="3912120"/>
              <a:ext cx="192240" cy="235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3480" y="54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 proprietate au unghiurile ascutite ale unui triunghi dreptunghi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5545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ghiurile ascutite ale unui triunghi dreptunghic sunt complemen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(&lt;B) + m(&lt;C)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4"/>
          <p:cNvGrpSpPr/>
          <p:nvPr/>
        </p:nvGrpSpPr>
        <p:grpSpPr>
          <a:xfrm>
            <a:off x="4676760" y="2952360"/>
            <a:ext cx="3515400" cy="2950920"/>
            <a:chOff x="4676760" y="2952360"/>
            <a:chExt cx="3515400" cy="2950920"/>
          </a:xfrm>
        </p:grpSpPr>
        <p:sp>
          <p:nvSpPr>
            <p:cNvPr id="135" name="AutoShape 9"/>
            <p:cNvSpPr/>
            <p:nvPr/>
          </p:nvSpPr>
          <p:spPr>
            <a:xfrm rot="16225800">
              <a:off x="5354280" y="3075480"/>
              <a:ext cx="2198880" cy="27446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0"/>
            <p:cNvSpPr/>
            <p:nvPr/>
          </p:nvSpPr>
          <p:spPr>
            <a:xfrm rot="21322200">
              <a:off x="4690800" y="536364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1"/>
            <p:cNvSpPr/>
            <p:nvPr/>
          </p:nvSpPr>
          <p:spPr>
            <a:xfrm rot="21473400">
              <a:off x="7713720" y="552636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2"/>
            <p:cNvSpPr/>
            <p:nvPr/>
          </p:nvSpPr>
          <p:spPr>
            <a:xfrm rot="21473400">
              <a:off x="7661880" y="2959560"/>
              <a:ext cx="4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 rot="16094400">
              <a:off x="7614360" y="5338800"/>
              <a:ext cx="192240" cy="235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912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m se calculeaza aria si perimetrul unui triunghi dreptunghic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7"/>
          <p:cNvGrpSpPr/>
          <p:nvPr/>
        </p:nvGrpSpPr>
        <p:grpSpPr>
          <a:xfrm>
            <a:off x="611280" y="1773360"/>
            <a:ext cx="3889080" cy="3783240"/>
            <a:chOff x="611280" y="1773360"/>
            <a:chExt cx="3889080" cy="3783240"/>
          </a:xfrm>
        </p:grpSpPr>
        <p:sp>
          <p:nvSpPr>
            <p:cNvPr id="142" name="AutoShape 10"/>
            <p:cNvSpPr/>
            <p:nvPr/>
          </p:nvSpPr>
          <p:spPr>
            <a:xfrm>
              <a:off x="1261440" y="2057760"/>
              <a:ext cx="2374560" cy="322668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611280" y="1773360"/>
              <a:ext cx="7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3"/>
            <p:cNvSpPr/>
            <p:nvPr/>
          </p:nvSpPr>
          <p:spPr>
            <a:xfrm>
              <a:off x="611280" y="518832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4"/>
            <p:cNvSpPr/>
            <p:nvPr/>
          </p:nvSpPr>
          <p:spPr>
            <a:xfrm>
              <a:off x="3745440" y="5094360"/>
              <a:ext cx="7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5"/>
            <p:cNvSpPr/>
            <p:nvPr/>
          </p:nvSpPr>
          <p:spPr>
            <a:xfrm>
              <a:off x="2988000" y="3956760"/>
              <a:ext cx="7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6"/>
            <p:cNvSpPr/>
            <p:nvPr/>
          </p:nvSpPr>
          <p:spPr>
            <a:xfrm flipV="1">
              <a:off x="1261440" y="4240440"/>
              <a:ext cx="1619640" cy="10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18"/>
          <p:cNvSpPr/>
          <p:nvPr/>
        </p:nvSpPr>
        <p:spPr>
          <a:xfrm>
            <a:off x="5072040" y="48578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5143680" y="1857240"/>
                <a:ext cx="2104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5072040" y="3286080"/>
                <a:ext cx="2104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atea medianei corespunzatoare ipotenuz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1320" y="2142720"/>
            <a:ext cx="7900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tr-un triunghi dreptunghic, lungimea medianei corespunzătoare ipotenuzei este egală cu jumătate din lungimea ipotenuz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3"/>
          <p:cNvGrpSpPr/>
          <p:nvPr/>
        </p:nvGrpSpPr>
        <p:grpSpPr>
          <a:xfrm>
            <a:off x="2421000" y="3071880"/>
            <a:ext cx="5718240" cy="2936880"/>
            <a:chOff x="2421000" y="3071880"/>
            <a:chExt cx="5718240" cy="2936880"/>
          </a:xfrm>
        </p:grpSpPr>
        <p:sp>
          <p:nvSpPr>
            <p:cNvPr id="157" name="AutoShape 9"/>
            <p:cNvSpPr/>
            <p:nvPr/>
          </p:nvSpPr>
          <p:spPr>
            <a:xfrm rot="16352400">
              <a:off x="4282200" y="2258640"/>
              <a:ext cx="2198520" cy="44960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 rot="21448800">
              <a:off x="2428560" y="5363640"/>
              <a:ext cx="59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7367040" y="5640480"/>
              <a:ext cx="7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7437240" y="307188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 rot="16221000">
              <a:off x="7419960" y="5565240"/>
              <a:ext cx="156960" cy="1404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Conector drept 10"/>
          <p:cNvSpPr/>
          <p:nvPr/>
        </p:nvSpPr>
        <p:spPr>
          <a:xfrm flipH="1" flipV="1">
            <a:off x="5428800" y="4500360"/>
            <a:ext cx="2143080" cy="12142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asetăText 20"/>
          <p:cNvSpPr/>
          <p:nvPr/>
        </p:nvSpPr>
        <p:spPr>
          <a:xfrm>
            <a:off x="5000760" y="4214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000080" y="4000680"/>
                <a:ext cx="16858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înălţim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640" y="119700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înălţimea dusă din vârful unghiului drept este medie proporţională între segmentele determinate de ea pe ipotenuz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24000" y="3715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BD ∙  D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7"/>
          <p:cNvGrpSpPr/>
          <p:nvPr/>
        </p:nvGrpSpPr>
        <p:grpSpPr>
          <a:xfrm>
            <a:off x="900000" y="2565360"/>
            <a:ext cx="4041000" cy="3741840"/>
            <a:chOff x="900000" y="2565360"/>
            <a:chExt cx="4041000" cy="3741840"/>
          </a:xfrm>
        </p:grpSpPr>
        <p:sp>
          <p:nvSpPr>
            <p:cNvPr id="169" name="AutoShape 10"/>
            <p:cNvSpPr/>
            <p:nvPr/>
          </p:nvSpPr>
          <p:spPr>
            <a:xfrm>
              <a:off x="1575720" y="2846160"/>
              <a:ext cx="2467440" cy="31874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900000" y="2565360"/>
              <a:ext cx="7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900000" y="593892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4156560" y="584604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3369960" y="472212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 flipV="1">
              <a:off x="1575720" y="5002560"/>
              <a:ext cx="1683000" cy="10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catet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640" y="119700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o catetă este medie proporţională între segmentele ipotenuză şi proiecţia ei pe ipotenuz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66920" y="4436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7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BD ∙ 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CD ∙ 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7"/>
          <p:cNvGrpSpPr/>
          <p:nvPr/>
        </p:nvGrpSpPr>
        <p:grpSpPr>
          <a:xfrm>
            <a:off x="900000" y="2565360"/>
            <a:ext cx="4041000" cy="3741840"/>
            <a:chOff x="900000" y="2565360"/>
            <a:chExt cx="4041000" cy="3741840"/>
          </a:xfrm>
        </p:grpSpPr>
        <p:sp>
          <p:nvSpPr>
            <p:cNvPr id="179" name="AutoShape 10"/>
            <p:cNvSpPr/>
            <p:nvPr/>
          </p:nvSpPr>
          <p:spPr>
            <a:xfrm>
              <a:off x="1575720" y="2846160"/>
              <a:ext cx="2467440" cy="31874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900000" y="2565360"/>
              <a:ext cx="7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900000" y="593892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4156560" y="584604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3369960" y="472212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6"/>
            <p:cNvSpPr/>
            <p:nvPr/>
          </p:nvSpPr>
          <p:spPr>
            <a:xfrm flipV="1">
              <a:off x="1575720" y="5002560"/>
              <a:ext cx="1683000" cy="10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lui Pitag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5280" y="1268280"/>
            <a:ext cx="8353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suma lungimilor pătratelor catetelor este egală cu pătratul ipotenuz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347640" y="3715920"/>
            <a:ext cx="4969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+ A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= B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"/>
          <p:cNvGrpSpPr/>
          <p:nvPr/>
        </p:nvGrpSpPr>
        <p:grpSpPr>
          <a:xfrm>
            <a:off x="539640" y="2565360"/>
            <a:ext cx="4041720" cy="3742200"/>
            <a:chOff x="539640" y="2565360"/>
            <a:chExt cx="4041720" cy="3742200"/>
          </a:xfrm>
        </p:grpSpPr>
        <p:sp>
          <p:nvSpPr>
            <p:cNvPr id="189" name="AutoShape 10"/>
            <p:cNvSpPr/>
            <p:nvPr/>
          </p:nvSpPr>
          <p:spPr>
            <a:xfrm>
              <a:off x="1215360" y="2846160"/>
              <a:ext cx="2467800" cy="318816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539640" y="2565360"/>
              <a:ext cx="78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539640" y="593928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3796920" y="584640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8:24:54Z</dcterms:created>
  <dc:creator>Bugs Bunny</dc:creator>
  <dc:description/>
  <dc:language>en-US</dc:language>
  <cp:lastModifiedBy>CHANGE_ME</cp:lastModifiedBy>
  <dcterms:modified xsi:type="dcterms:W3CDTF">2010-06-17T02:27:37Z</dcterms:modified>
  <cp:revision>21</cp:revision>
  <dc:subject/>
  <dc:title>Triunghiul dreptunghic</dc:title>
</cp:coreProperties>
</file>